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40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41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B31C-7839-4B1A-9212-668E50DBF9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CAB-0802-41FB-A876-21650D1582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43430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s 3 &amp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Directions: Providing tasks to complete, increasing # of task in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urn around in a circle in place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tand on one foot for 5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Jump up and down on two feet 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Jog in place for 2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to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ide: count by 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ide: count by 5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our hands to speak: try to learn about students by asking questions w/o taking 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rades 1 &amp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follow directions (Mr. Gill Says, (same as “Simon Says” for grades 1 &amp;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ten to one another (Sing-Along, Row, Row, Row Your Boat &amp; Itsy, Bitsy Spi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ise our hands to speak  (Q &amp; A Game students called out answers all at once to simple, get to know you questions, ie. How old are you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A29-BD5A-4897-A851-E2CC91EE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25E-676E-42F2-B3EB-55EB3FB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697-BBA5-480A-97F4-12B7E8CB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E18-7F07-4596-B565-FF8A94B1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4E4-2366-424C-895F-499DF133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70C-96BB-4BC5-AA80-B7FBB2C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325-AD41-49AE-AE4E-8BAD5DE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468-E1C9-4568-9025-381A7E56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43A-09D0-436B-9506-C64E52C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E9C-F836-4307-ADED-8D9D5D7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817-7289-4569-A151-5A7F414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7F1-D99F-4040-AAC1-5117367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69B9-A319-4D24-9F65-40198DCAD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WHES Town Hal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2092320"/>
            <a:ext cx="47246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23840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7048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1048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781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604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8190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11320"/>
            <a:ext cx="7238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305920" cy="61722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15019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14240" y="2286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1: STO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2: LOO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3: LIST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858960"/>
            <a:ext cx="74674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ubway"/>
              </a:rPr>
              <a:t>Citizenship=Caring About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Subway"/>
              </a:rPr>
              <a:t>Community Service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Help the children of Hurricane Kat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Donate any School Supplies by October 6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553080" y="1295280"/>
            <a:ext cx="2217960" cy="221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926400" y="2438280"/>
            <a:ext cx="2217600" cy="221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00600" y="3886200"/>
            <a:ext cx="2217600" cy="2217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535880" y="4343400"/>
            <a:ext cx="1608120" cy="160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172200" y="524988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ubway"/>
              </a:rPr>
              <a:t>Attitude = Succ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Citizens of the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Monitors’ Morning Mun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Cruising with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6920" y="3733920"/>
            <a:ext cx="3620880" cy="2685960"/>
            <a:chOff x="4876920" y="3733920"/>
            <a:chExt cx="3620880" cy="26859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876920" y="3733920"/>
              <a:ext cx="362088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4876920" y="3733920"/>
              <a:ext cx="3620880" cy="26859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empus Sans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38280" y="374184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002440" y="0"/>
            <a:ext cx="11415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934320" y="5478480"/>
            <a:ext cx="1379520" cy="137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130880" y="1600200"/>
            <a:ext cx="2013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Is your bus</a:t>
            </a:r>
            <a:br>
              <a:rPr sz="4400"/>
            </a:br>
            <a:r>
              <a:rPr b="1" lang="en-US" sz="4800" spc="-1" strike="noStrike">
                <a:solidFill>
                  <a:srgbClr val="cc0000"/>
                </a:solidFill>
                <a:latin typeface="Subway"/>
              </a:rPr>
              <a:t>Cruising with Character</a:t>
            </a: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2286000"/>
          <a:ext cx="308448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30844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761080" y="2438280"/>
          <a:ext cx="338292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1080" y="2438280"/>
                    <a:ext cx="338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048120" y="1676520"/>
          <a:ext cx="2720880" cy="4064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676520"/>
                    <a:ext cx="272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Congratulations for Completing th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Summer Reading Response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Assignment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3429000"/>
            <a:ext cx="4114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We recognize your hard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We are proud that you acted responsi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28600"/>
            <a:ext cx="8382240" cy="716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WHES Town Hall</a:t>
            </a:r>
            <a:r>
              <a:rPr b="1" lang="en-US" sz="3200" spc="-1" strike="noStrike">
                <a:solidFill>
                  <a:srgbClr val="000000"/>
                </a:solidFill>
                <a:latin typeface="DomesticTex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ploma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2005-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As a member of the </a:t>
            </a:r>
            <a:r>
              <a:rPr b="1" lang="en-US" sz="2200" spc="-1" strike="noStrike">
                <a:solidFill>
                  <a:srgbClr val="000000"/>
                </a:solidFill>
                <a:latin typeface="Amazone BT"/>
              </a:rPr>
              <a:t>West Haverstraw Town Hall</a:t>
            </a: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I, _________________________________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hereby promise to be the best person I can be!  I promise to always exhi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mazone BT"/>
              </a:rPr>
              <a:t>trustworthiness, respect, responsibility, fairness, caring, and citizenship</a:t>
            </a: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Once signed by all the people listed below, this contract is official and bind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Mr. Gil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Ms. Saba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Principal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ssistant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-457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470800" cy="1904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Subway"/>
              </a:rPr>
              <a:t>The Six Pillars of Charac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4724280" cy="4267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Trustworth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Resp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C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Citize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3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ubway"/>
              </a:rPr>
              <a:t>WHES Character P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pledge to be a kid for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worthy of tr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respectful and responsible, doing what I m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always act with fair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show that I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a good citi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and always do my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0" y="489276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3526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1.  Follow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2.  Listen to one 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3.  Raise our hands to sp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Citizens of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WHES Town Hall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Follow 3 Rul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257800" y="609480"/>
            <a:ext cx="33908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urrica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atrin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581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46342" b="0"/>
          <a:stretch/>
        </p:blipFill>
        <p:spPr>
          <a:xfrm>
            <a:off x="914400" y="380880"/>
            <a:ext cx="7315200" cy="315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53663" t="0" r="0" b="0"/>
          <a:stretch/>
        </p:blipFill>
        <p:spPr>
          <a:xfrm>
            <a:off x="1752480" y="3657600"/>
            <a:ext cx="60199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014480"/>
            <a:ext cx="78487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662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7:45:03Z</dcterms:created>
  <dc:creator>Deborah Shaw</dc:creator>
  <dc:description/>
  <dc:language>en-US</dc:language>
  <cp:lastModifiedBy>North Rockland Schools</cp:lastModifiedBy>
  <cp:lastPrinted>2005-09-26T22:43:20Z</cp:lastPrinted>
  <dcterms:modified xsi:type="dcterms:W3CDTF">2006-10-27T14:23:23Z</dcterms:modified>
  <cp:revision>12</cp:revision>
  <dc:subject/>
  <dc:title>Welcome to  WHES Town Hall!</dc:title>
</cp:coreProperties>
</file>